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D73F-FBEA-4320-ADE1-EE43CE179A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B399-AB1D-4EDE-8E57-98AF0B9B5B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C5AF-4E12-450B-827F-882D43ADDB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755-BA7A-4B5A-8BA9-81FFED2C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3CF-94A6-42A1-A610-69CB1710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43B5-6439-4BFF-BC64-36E4A175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53F-0659-4C62-8428-5E7A88CA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007B-2353-4914-A006-3EE4C21D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D4EC-8C6A-4271-B8BA-80DB042A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BD7C-F0B6-45C0-BA14-D854569B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6CB-B4A1-42AF-B305-72A32296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43B-91CB-464A-9D97-89C031C1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0630-089D-4375-BAE5-9C67516E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C4F8-7306-4C93-9F82-26B70995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393-5E8C-426A-8B3C-21D5A5C0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6889-95C4-46F7-A6AA-53FA4235C0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24.jpg"/>
          <p:cNvPicPr/>
          <p:nvPr/>
        </p:nvPicPr>
        <p:blipFill>
          <a:blip r:embed="rId1"/>
          <a:stretch/>
        </p:blipFill>
        <p:spPr>
          <a:xfrm>
            <a:off x="1214280" y="2357280"/>
            <a:ext cx="6572520" cy="4500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СТРАХОВЫЕ РИСКИ и УСЛОВИЯ СТРАХОВАНИЯ ГРУЗ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4" descr="strahovanie-gruzov.jpg"/>
          <p:cNvPicPr/>
          <p:nvPr/>
        </p:nvPicPr>
        <p:blipFill>
          <a:blip r:embed="rId1"/>
          <a:stretch/>
        </p:blipFill>
        <p:spPr>
          <a:xfrm>
            <a:off x="0" y="0"/>
            <a:ext cx="1928880" cy="16732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44173.jpg"/>
          <p:cNvPicPr/>
          <p:nvPr/>
        </p:nvPicPr>
        <p:blipFill>
          <a:blip r:embed="rId2"/>
          <a:stretch/>
        </p:blipFill>
        <p:spPr>
          <a:xfrm>
            <a:off x="5929200" y="4714920"/>
            <a:ext cx="3214800" cy="2143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С ответственностью за все рис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Book Antiqua"/>
              </a:rPr>
              <a:t>По договору страхования, заключенному на этом условии, возмеща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убытки от повреждений или полной гибели всего или части груза, происшедшие по любой причин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все необходимые и целесообразно произведенные расходы по спасанию и сохранению груза, а также по предупреждению дальнейших его поврежд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«Без ответственности за поврежден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Book Antiqua"/>
              </a:rPr>
              <a:t>По договору страхования, заключенному на этом условии, возмещаются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убытки от полной гибели всего или части груза, причиненные пожаром, молнией, бурей, вихрем и другими стихийными бедствиями, крушением или столкновением поездов, судов, самолетов и других перевозочных средств между собой, или ударом их о неподвижные или плавучие предмет, посадкой судна на мель, провалом мостов, взрывом, повреждением судна льдом, подмочкой забортной водой, аварией при погрузке, укладке, выгрузке и приеме судном топлива, а также вследствие мер, принятых для спасения или для тушения пожар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убытки вследствие пропажи транспортного средства без ве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се необходимые и целесообразно произведенные расходы по спасению и сохранению груза, а также по предупреждению дальнейших его поврежд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Ответственность по договору страхования начинается с момента, когда груз будет взят со склада в пункте отправления для первозки, и продолжается в течении всей перевозки (включая перегрузки и перевалки, а также хранения на складах в пунктах перегрузок и перевалок) до тех пор, пока груз не будет доставлен на склад грузополучателя или другой конечный склад в пункте назначения, указанном в страховом свидетель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Не возмещаются убытки, происшедшие вследств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Book Antiqua"/>
              </a:rPr>
              <a:t>всякого рода военных мероприятий и их последствий, повреждения или уничтожения минами, торпедами, бомбами и другими орудиями войны, пиратских действий, а также вследствие народных волнений и забастовок, конфискации, реквизации, арест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Book Antiqua"/>
              </a:rPr>
              <a:t>прямого или косвенного воздействия атомного взрыва, радиоктивного заражения, связанного с любым применением атомной энергии и использованием расщепляемых материалов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Book Antiqua"/>
              </a:rPr>
              <a:t>умысла или грубой неосторожности страхователя или его представителя, а также вследствие нарушения кем-либо из них установленных правил перевозки, пересылки и хранения грузо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Book Antiqua"/>
              </a:rPr>
              <a:t>влияние температуры, трюмного воздуха или особых и естественных свойств груза, включая усушк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Book Antiqua"/>
              </a:rPr>
              <a:t>упаковки или укупорки грузов с нарушением ГОСТов и отправления грузов в поврежденном состояни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ожара или взрыва, вследствии погрузки с ведома страхователя или представителя, но без ведома страховщика самовозгорающихся и взрывоопасных веществ и предмет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недостачи груза при целости наружной упаков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овреждения груза червями, грызунами, насеком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Договор заключается на основании письменного заявления страхователя, составляемого в двух экземплярах. Заявление должно содержать следующие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0040" y="28576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точное название, род упаковки, число мест и вес груз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омер и дата коносаментов или других перевозочных документ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вид транспорта (при морской перевозке, - название, год постройки и тоннаж судн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1274809322_59-3.jpg"/>
          <p:cNvPicPr/>
          <p:nvPr/>
        </p:nvPicPr>
        <p:blipFill>
          <a:blip r:embed="rId1"/>
          <a:stretch/>
        </p:blipFill>
        <p:spPr>
          <a:xfrm>
            <a:off x="4667400" y="2381400"/>
            <a:ext cx="4476600" cy="4476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способ отправки груза (в трюме или на палубе, навалом, насыпью, наливом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ункты отправления, пергрузки и назначения груз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ату отправки груз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страховую сумм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вид условий страх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4" descr="J1-5.jpg"/>
          <p:cNvPicPr/>
          <p:nvPr/>
        </p:nvPicPr>
        <p:blipFill>
          <a:blip r:embed="rId1"/>
          <a:stretch/>
        </p:blipFill>
        <p:spPr>
          <a:xfrm>
            <a:off x="271476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роме того, страхователь обязан сообщить и все другие, известные ему сведения об обстоятельствах, имеющих существенное значение для определения степени риска. При необходимости (по усмотрению страховщика) договор страхования заключается с осмотром и составлением описи имуще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Страховщик имеет право отказать в выплате страхового возмещения, если страховател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сообщил неправильные сведения об обстоятельствах, имеющих существенное значение для суждения о страховом риск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не сообщил страховщику о существенных изменениях в риск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Страховой риск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— это событие, наступление которого не определено во времени и в пространстве, независимое от волеизъявления сторон, опасное и создающее вследствие этого стимул для страхования; это тот риск, который может быть оценен с точки зрения вероятности наступления страхового случая и размеров возможного ущерб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3.cargo_insurance.jpg"/>
          <p:cNvPicPr/>
          <p:nvPr/>
        </p:nvPicPr>
        <p:blipFill>
          <a:blip r:embed="rId1"/>
          <a:stretch/>
        </p:blipFill>
        <p:spPr>
          <a:xfrm>
            <a:off x="6072120" y="4857840"/>
            <a:ext cx="187632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3" descr="25429_1_strahovaniegruza.jpg"/>
          <p:cNvPicPr/>
          <p:nvPr/>
        </p:nvPicPr>
        <p:blipFill>
          <a:blip r:embed="rId1"/>
          <a:stretch/>
        </p:blipFill>
        <p:spPr>
          <a:xfrm>
            <a:off x="2500200" y="3290760"/>
            <a:ext cx="4214880" cy="3567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не принял мер к спасению и сохранению груза и не известил страховщика в установленные настоящими Правилами сроки о страховом случа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не представил документов, подтверждающих факт страхового случая и необходимых для установления убыт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Страховой риск - понятие, имеющее несколько значени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риск - как вероятность наступления события, находящегося вне контрол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риск - вероятность наступления ущерба жизни, здоровью, имуществу страхователя (застрахованного) в результате страхового случа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риск - ответственность страховщика, вид ответственности страховщик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риск - предполагаемое событие, на случай наступления которого проводится страхован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Скругленный прямоугольник 3"/>
          <p:cNvSpPr/>
          <p:nvPr/>
        </p:nvSpPr>
        <p:spPr>
          <a:xfrm>
            <a:off x="3000240" y="50004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еждународные правила страхования гру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4"/>
          <p:cNvSpPr/>
          <p:nvPr/>
        </p:nvSpPr>
        <p:spPr>
          <a:xfrm>
            <a:off x="357120" y="1928880"/>
            <a:ext cx="3286080" cy="1571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Груз страхуется от всех рисков, за исключением определенного перечня, которые прописывается в догов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5"/>
          <p:cNvSpPr/>
          <p:nvPr/>
        </p:nvSpPr>
        <p:spPr>
          <a:xfrm>
            <a:off x="2928960" y="3357720"/>
            <a:ext cx="3500280" cy="150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Груз страхуется только от тех рисков, которые указаны в догов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6"/>
          <p:cNvSpPr/>
          <p:nvPr/>
        </p:nvSpPr>
        <p:spPr>
          <a:xfrm>
            <a:off x="5500800" y="4857840"/>
            <a:ext cx="3214440" cy="1571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Груз страхуется только от полной гибели. При этом частичные повреждения не возмещ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1"/>
          <p:cNvSpPr/>
          <p:nvPr/>
        </p:nvSpPr>
        <p:spPr>
          <a:xfrm flipH="1" flipV="1">
            <a:off x="1428480" y="1071720"/>
            <a:ext cx="157140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13"/>
          <p:cNvCxnSpPr/>
          <p:nvPr/>
        </p:nvCxnSpPr>
        <p:spPr>
          <a:xfrm flipH="1">
            <a:off x="1426320" y="1071360"/>
            <a:ext cx="2520" cy="857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0" name="Прямая соединительная линия 15"/>
          <p:cNvSpPr/>
          <p:nvPr/>
        </p:nvSpPr>
        <p:spPr>
          <a:xfrm>
            <a:off x="5572080" y="1071720"/>
            <a:ext cx="235764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17"/>
          <p:cNvCxnSpPr/>
          <p:nvPr/>
        </p:nvCxnSpPr>
        <p:spPr>
          <a:xfrm flipH="1">
            <a:off x="7929360" y="1071360"/>
            <a:ext cx="2160" cy="3788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62" name="Прямая со стрелкой 19"/>
          <p:cNvCxnSpPr>
            <a:stCxn id="54" idx="2"/>
          </p:cNvCxnSpPr>
          <p:nvPr/>
        </p:nvCxnSpPr>
        <p:spPr>
          <a:xfrm flipH="1">
            <a:off x="4284360" y="1642680"/>
            <a:ext cx="2160" cy="1715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2" descr="risk1.jpg"/>
          <p:cNvPicPr/>
          <p:nvPr/>
        </p:nvPicPr>
        <p:blipFill>
          <a:blip r:embed="rId1"/>
          <a:stretch/>
        </p:blipFill>
        <p:spPr>
          <a:xfrm>
            <a:off x="4886280" y="1866960"/>
            <a:ext cx="4257720" cy="4991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Страхование грузов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— один из видов имущественного страхования, имеющий целью защиту имущественных интересов владельцев грузов на случай наступления убытков вызванных различного рода происшествиями (страховыми событиями) в процессе транспортировки гру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уз страхуется от всех рисков, за исключением определенного перечня, которые прописывается в договоре. Обычно исключения составляю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йна и ее последств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томный взры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мысел или грубая небрежность Страховщи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лияние температуры, трюмного воздуха или особых свойств груза, вызвавших его повреждени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соответствия упаковки, вызвавшей повреждение груз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жар, взры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вреждение насекомыми, червями и т.п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достача груза при целостности упаковк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т.п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уз страхуется только от тех рисков, которые указаны в договоре. Обычно их 5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хийные бедствия, огонь, пожар, молния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пажа транспорта (и груза) без в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частные случая при погрузочно-разгрузочных рабо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а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есообразные расходы по спасению груза или уменьшения убы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iStock_Umbrella.jpg"/>
          <p:cNvPicPr/>
          <p:nvPr/>
        </p:nvPicPr>
        <p:blipFill>
          <a:blip r:embed="rId1"/>
          <a:stretch/>
        </p:blipFill>
        <p:spPr>
          <a:xfrm>
            <a:off x="1643040" y="1073160"/>
            <a:ext cx="5789520" cy="57848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уз страхуется только от полной гибели. При этом частичные повреждения не возмещаю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Условия страхования грузов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642960" y="1714680"/>
            <a:ext cx="3786120" cy="435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Book Antiqua"/>
              </a:rPr>
              <a:t>«С ответственностью за все рис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4786200" y="1714680"/>
            <a:ext cx="3786480" cy="435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Book Antiqua"/>
              </a:rPr>
              <a:t>«Без ответственности за поврежде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7:39:09Z</dcterms:created>
  <dc:creator>SamLab.ws</dc:creator>
  <dc:description/>
  <dc:language>en-US</dc:language>
  <cp:lastModifiedBy>Компьютер</cp:lastModifiedBy>
  <dcterms:modified xsi:type="dcterms:W3CDTF">2012-05-27T15:16:18Z</dcterms:modified>
  <cp:revision>15</cp:revision>
  <dc:subject/>
  <dc:title>СТРАХОВЫЕ РИСКИ и УСЛОВИЯ СТРАХОВАНИЯ ГРУЗОВ</dc:title>
</cp:coreProperties>
</file>